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4878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498-9002-42BC-B020-AEA20DB9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376560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68320" y="1921320"/>
            <a:ext cx="376560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E57-A379-4047-9AA3-3C0ADFB2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979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68320" y="192132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97920" y="192132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F47-4663-45EE-B7FC-A2A0A16C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141280" y="44568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14600" y="44568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68320" y="192132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141280" y="192132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3414600" y="192132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0CB-CDC2-4385-A9DB-1B8EBE12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998FD-820D-4B84-8A40-9B272B6B0F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68320" y="445680"/>
            <a:ext cx="3765600" cy="28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FB5B5-11BD-40A7-87EA-B2D9372EE2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376560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37E0C-96F0-4C26-86AA-2F026A3CEF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83744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797920" y="445680"/>
            <a:ext cx="183744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5D97D-C138-4547-B8B8-B0CF58BFFA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04AA5-572B-4745-80FF-EC929365C7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93200" y="147240"/>
            <a:ext cx="413100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C477A-F57C-43D5-ACAD-7BA830F7B0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797920" y="445680"/>
            <a:ext cx="183744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68320" y="192132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C2379-353B-41A3-8BCE-62D9FD5EF3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68320" y="445680"/>
            <a:ext cx="3765600" cy="28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088-AD4C-4994-94E6-7BA52EC2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83744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979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97920" y="192132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1EBA1-1979-4174-8432-8B7588C8D4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979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68320" y="1921320"/>
            <a:ext cx="376560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0A806-9F67-4FA9-BFF6-1F826317FA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376560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68320" y="1921320"/>
            <a:ext cx="376560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A5CC1-2C63-4AB2-9E20-F99BC3701B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979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68320" y="192132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97920" y="192132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11711-0ABF-4163-96AD-EFC21BB8CE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141280" y="44568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14600" y="44568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68320" y="192132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141280" y="192132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3414600" y="192132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DF40D-5AAF-42B3-B137-53BDB849D5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538B-26FF-4F72-A55C-C8862CBD06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68320" y="445680"/>
            <a:ext cx="3765600" cy="28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372D-14A8-43FE-9C74-AAD8CC2629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376560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49A4-89AF-4AEA-971D-B920D2587E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83744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797920" y="445680"/>
            <a:ext cx="183744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0A69-6695-4EE4-9029-CD11F98D4B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0F87-AE6C-481D-BF43-E781E1F543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376560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1CF-CC59-49D2-8369-FA27768F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3200" y="147240"/>
            <a:ext cx="413100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22F3-E26A-4262-AB11-0199986A21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797920" y="445680"/>
            <a:ext cx="183744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68320" y="192132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EFEE-0C56-40F5-B294-23944A4FC3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83744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7979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797920" y="192132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9B7E-8923-4DF0-B3CA-E4A3EC5686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979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68320" y="1921320"/>
            <a:ext cx="376560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B8DD-293B-4CAE-99C4-BC5DCE49C9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376560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68320" y="1921320"/>
            <a:ext cx="376560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78A6-1938-40BB-ACC3-D2462FD1BF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7979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68320" y="192132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797920" y="192132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683E-27A7-4F5C-92BC-CE5213371D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141280" y="44568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414600" y="44568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68320" y="192132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141280" y="192132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3414600" y="1921320"/>
            <a:ext cx="121212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F67D-B495-4510-805C-4EB354F2A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83744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97920" y="445680"/>
            <a:ext cx="183744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789-D463-41CF-94A5-A95D7827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1C8-78F8-44ED-A3DC-AB582686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3200" y="147240"/>
            <a:ext cx="413100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ADE-DA37-4F6F-8232-E2AB3CE1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97920" y="445680"/>
            <a:ext cx="183744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8320" y="192132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C8E-4347-4B45-A699-9EA85749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83744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7979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97920" y="192132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071-7667-4500-A10E-28D6ED03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3085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683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97920" y="445680"/>
            <a:ext cx="183744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68320" y="1921320"/>
            <a:ext cx="3765600" cy="13471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E9C-28E7-439A-AB0C-51D2A158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magine 8" descr=""/>
          <p:cNvPicPr/>
          <p:nvPr/>
        </p:nvPicPr>
        <p:blipFill>
          <a:blip r:embed="rId2"/>
          <a:stretch/>
        </p:blipFill>
        <p:spPr>
          <a:xfrm>
            <a:off x="-9360" y="0"/>
            <a:ext cx="4887720" cy="370044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5" descr=""/>
          <p:cNvPicPr/>
          <p:nvPr/>
        </p:nvPicPr>
        <p:blipFill>
          <a:blip r:embed="rId3"/>
          <a:srcRect l="0" t="0" r="38668" b="1902"/>
          <a:stretch/>
        </p:blipFill>
        <p:spPr>
          <a:xfrm rot="2655600">
            <a:off x="3613320" y="2232000"/>
            <a:ext cx="1203120" cy="117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2984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00000"/>
                </a:solidFill>
                <a:latin typeface="Garamond"/>
              </a:rPr>
              <a:t>Click to edit the title text format</a:t>
            </a: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68320" y="445680"/>
            <a:ext cx="376560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marL="182520" indent="-182520" algn="just">
              <a:spcBef>
                <a:spcPts val="425"/>
              </a:spcBef>
              <a:buClr>
                <a:srgbClr val="5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1" marL="357120" indent="-172800" algn="just">
              <a:spcBef>
                <a:spcPts val="425"/>
              </a:spcBef>
              <a:buClr>
                <a:srgbClr val="5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2" marL="544680" indent="-185760" algn="just">
              <a:spcBef>
                <a:spcPts val="425"/>
              </a:spcBef>
              <a:buClr>
                <a:srgbClr val="5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3" marL="714240" indent="-168120" algn="just">
              <a:spcBef>
                <a:spcPts val="425"/>
              </a:spcBef>
              <a:buClr>
                <a:srgbClr val="5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4" marL="895320" indent="-181080" algn="just">
              <a:spcBef>
                <a:spcPts val="425"/>
              </a:spcBef>
              <a:buClr>
                <a:srgbClr val="5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5" marL="895320" indent="-181080" algn="just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6" marL="895320" indent="-181080" algn="just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77640" y="3441600"/>
            <a:ext cx="563400" cy="1368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028960" y="3325320"/>
            <a:ext cx="1055520" cy="2444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486240" y="3325320"/>
            <a:ext cx="1138320" cy="2444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4AEF-ADC7-4803-A6F4-E2FBABDC6B0A}" type="slidenum">
              <a:rPr b="0" lang="it-IT" sz="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Connettore 1 4"/>
          <p:cNvSpPr/>
          <p:nvPr/>
        </p:nvSpPr>
        <p:spPr>
          <a:xfrm>
            <a:off x="1287360" y="3595680"/>
            <a:ext cx="3600720" cy="0"/>
          </a:xfrm>
          <a:prstGeom prst="line">
            <a:avLst/>
          </a:prstGeom>
          <a:ln w="9360">
            <a:solidFill>
              <a:srgbClr val="5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ttore 1 9"/>
          <p:cNvSpPr/>
          <p:nvPr/>
        </p:nvSpPr>
        <p:spPr>
          <a:xfrm>
            <a:off x="493560" y="446040"/>
            <a:ext cx="4438800" cy="0"/>
          </a:xfrm>
          <a:prstGeom prst="line">
            <a:avLst/>
          </a:prstGeom>
          <a:ln w="9360">
            <a:solidFill>
              <a:srgbClr val="5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Immagine 11" descr="unisa.png"/>
          <p:cNvPicPr/>
          <p:nvPr/>
        </p:nvPicPr>
        <p:blipFill>
          <a:blip r:embed="rId4"/>
          <a:stretch/>
        </p:blipFill>
        <p:spPr>
          <a:xfrm>
            <a:off x="4390920" y="3336840"/>
            <a:ext cx="233640" cy="230400"/>
          </a:xfrm>
          <a:prstGeom prst="rect">
            <a:avLst/>
          </a:prstGeom>
          <a:ln w="0">
            <a:noFill/>
          </a:ln>
        </p:spPr>
      </p:pic>
      <p:sp>
        <p:nvSpPr>
          <p:cNvPr id="10" name="CasellaDiTesto 3"/>
          <p:cNvSpPr/>
          <p:nvPr/>
        </p:nvSpPr>
        <p:spPr>
          <a:xfrm>
            <a:off x="3645000" y="3403440"/>
            <a:ext cx="907920" cy="1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600" rIns="48600" tIns="24480" bIns="24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Garamond"/>
              </a:rPr>
              <a:t>Università degli Studi di Salerno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Connettore 1 12"/>
          <p:cNvSpPr/>
          <p:nvPr/>
        </p:nvSpPr>
        <p:spPr>
          <a:xfrm flipV="1">
            <a:off x="365040" y="716040"/>
            <a:ext cx="0" cy="350640"/>
          </a:xfrm>
          <a:prstGeom prst="line">
            <a:avLst/>
          </a:prstGeom>
          <a:ln w="9360">
            <a:solidFill>
              <a:srgbClr val="5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onnettore 1 13"/>
          <p:cNvSpPr/>
          <p:nvPr/>
        </p:nvSpPr>
        <p:spPr>
          <a:xfrm>
            <a:off x="365040" y="716040"/>
            <a:ext cx="4226040" cy="0"/>
          </a:xfrm>
          <a:prstGeom prst="line">
            <a:avLst/>
          </a:prstGeom>
          <a:ln w="9360">
            <a:solidFill>
              <a:srgbClr val="5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nettore 1 14"/>
          <p:cNvSpPr/>
          <p:nvPr/>
        </p:nvSpPr>
        <p:spPr>
          <a:xfrm>
            <a:off x="1055520" y="2098800"/>
            <a:ext cx="3497400" cy="0"/>
          </a:xfrm>
          <a:prstGeom prst="line">
            <a:avLst/>
          </a:prstGeom>
          <a:ln w="9360">
            <a:solidFill>
              <a:srgbClr val="5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magine 18" descr="unisa.png"/>
          <p:cNvPicPr/>
          <p:nvPr/>
        </p:nvPicPr>
        <p:blipFill>
          <a:blip r:embed="rId2"/>
          <a:stretch/>
        </p:blipFill>
        <p:spPr>
          <a:xfrm>
            <a:off x="4398840" y="3363840"/>
            <a:ext cx="233640" cy="231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2984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00000"/>
                </a:solidFill>
                <a:latin typeface="Garamond"/>
              </a:rPr>
              <a:t>Click to edit the title text format</a:t>
            </a: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68320" y="445680"/>
            <a:ext cx="376560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marL="182520" indent="-182520" algn="just">
              <a:spcBef>
                <a:spcPts val="425"/>
              </a:spcBef>
              <a:buClr>
                <a:srgbClr val="5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1" marL="357120" indent="-172800" algn="just">
              <a:spcBef>
                <a:spcPts val="425"/>
              </a:spcBef>
              <a:buClr>
                <a:srgbClr val="5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2" marL="544680" indent="-185760" algn="just">
              <a:spcBef>
                <a:spcPts val="425"/>
              </a:spcBef>
              <a:buClr>
                <a:srgbClr val="5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3" marL="714240" indent="-168120" algn="just">
              <a:spcBef>
                <a:spcPts val="425"/>
              </a:spcBef>
              <a:buClr>
                <a:srgbClr val="5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4" marL="895320" indent="-181080" algn="just">
              <a:spcBef>
                <a:spcPts val="425"/>
              </a:spcBef>
              <a:buClr>
                <a:srgbClr val="5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5" marL="895320" indent="-181080" algn="just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6" marL="895320" indent="-181080" algn="just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1666440" y="3330720"/>
            <a:ext cx="1544760" cy="2426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3486240" y="3325320"/>
            <a:ext cx="1138320" cy="2444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78A5-3FF2-4910-BC50-8624D189B0B1}" type="slidenum">
              <a:rPr b="0" lang="it-IT" sz="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magine 8" descr=""/>
          <p:cNvPicPr/>
          <p:nvPr/>
        </p:nvPicPr>
        <p:blipFill>
          <a:blip r:embed="rId2"/>
          <a:stretch/>
        </p:blipFill>
        <p:spPr>
          <a:xfrm>
            <a:off x="-9360" y="0"/>
            <a:ext cx="4887720" cy="3700440"/>
          </a:xfrm>
          <a:prstGeom prst="rect">
            <a:avLst/>
          </a:prstGeom>
          <a:ln w="0">
            <a:noFill/>
          </a:ln>
        </p:spPr>
      </p:pic>
      <p:pic>
        <p:nvPicPr>
          <p:cNvPr id="92" name="Immagine 5" descr=""/>
          <p:cNvPicPr/>
          <p:nvPr/>
        </p:nvPicPr>
        <p:blipFill>
          <a:blip r:embed="rId3"/>
          <a:srcRect l="0" t="0" r="38668" b="1902"/>
          <a:stretch/>
        </p:blipFill>
        <p:spPr>
          <a:xfrm rot="2655600">
            <a:off x="3613320" y="2232000"/>
            <a:ext cx="1203120" cy="1171440"/>
          </a:xfrm>
          <a:prstGeom prst="rect">
            <a:avLst/>
          </a:prstGeom>
          <a:ln w="0">
            <a:noFill/>
          </a:ln>
        </p:spPr>
      </p:pic>
      <p:sp>
        <p:nvSpPr>
          <p:cNvPr id="93" name="Connettore 1 4"/>
          <p:cNvSpPr/>
          <p:nvPr/>
        </p:nvSpPr>
        <p:spPr>
          <a:xfrm>
            <a:off x="1287360" y="3595680"/>
            <a:ext cx="3600720" cy="0"/>
          </a:xfrm>
          <a:prstGeom prst="line">
            <a:avLst/>
          </a:prstGeom>
          <a:ln w="9360">
            <a:solidFill>
              <a:srgbClr val="5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onnettore 1 9"/>
          <p:cNvSpPr/>
          <p:nvPr/>
        </p:nvSpPr>
        <p:spPr>
          <a:xfrm>
            <a:off x="493560" y="446040"/>
            <a:ext cx="4438800" cy="0"/>
          </a:xfrm>
          <a:prstGeom prst="line">
            <a:avLst/>
          </a:prstGeom>
          <a:ln w="9360">
            <a:solidFill>
              <a:srgbClr val="5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magine 11" descr="unisa.png"/>
          <p:cNvPicPr/>
          <p:nvPr/>
        </p:nvPicPr>
        <p:blipFill>
          <a:blip r:embed="rId4"/>
          <a:stretch/>
        </p:blipFill>
        <p:spPr>
          <a:xfrm>
            <a:off x="4390920" y="3336840"/>
            <a:ext cx="233640" cy="230400"/>
          </a:xfrm>
          <a:prstGeom prst="rect">
            <a:avLst/>
          </a:prstGeom>
          <a:ln w="0">
            <a:noFill/>
          </a:ln>
        </p:spPr>
      </p:pic>
      <p:sp>
        <p:nvSpPr>
          <p:cNvPr id="96" name="CasellaDiTesto 3"/>
          <p:cNvSpPr/>
          <p:nvPr/>
        </p:nvSpPr>
        <p:spPr>
          <a:xfrm>
            <a:off x="3645000" y="3403440"/>
            <a:ext cx="907920" cy="1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600" rIns="48600" tIns="24480" bIns="24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Garamond"/>
              </a:rPr>
              <a:t>Università degli Studi di Salerno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egnaposto piè di pagina 3"/>
          <p:cNvSpPr/>
          <p:nvPr/>
        </p:nvSpPr>
        <p:spPr>
          <a:xfrm>
            <a:off x="1171440" y="3314880"/>
            <a:ext cx="225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600" rIns="48600" tIns="24480" bIns="244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200" y="147240"/>
            <a:ext cx="4131000" cy="2984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00000"/>
                </a:solidFill>
                <a:latin typeface="Garamond"/>
              </a:rPr>
              <a:t>Click to edit the title text format</a:t>
            </a:r>
            <a:endParaRPr b="1" lang="en-US" sz="17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68320" y="445680"/>
            <a:ext cx="3765600" cy="28242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marL="182520" indent="-182520" algn="just">
              <a:spcBef>
                <a:spcPts val="425"/>
              </a:spcBef>
              <a:buClr>
                <a:srgbClr val="5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1" marL="357120" indent="-172800" algn="just">
              <a:spcBef>
                <a:spcPts val="425"/>
              </a:spcBef>
              <a:buClr>
                <a:srgbClr val="5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2" marL="544680" indent="-185760" algn="just">
              <a:spcBef>
                <a:spcPts val="425"/>
              </a:spcBef>
              <a:buClr>
                <a:srgbClr val="5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3" marL="714240" indent="-168120" algn="just">
              <a:spcBef>
                <a:spcPts val="425"/>
              </a:spcBef>
              <a:buClr>
                <a:srgbClr val="5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4" marL="895320" indent="-181080" algn="just">
              <a:spcBef>
                <a:spcPts val="425"/>
              </a:spcBef>
              <a:buClr>
                <a:srgbClr val="5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5" marL="895320" indent="-181080" algn="just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lvl="6" marL="895320" indent="-181080" algn="just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6"/>
          </p:nvPr>
        </p:nvSpPr>
        <p:spPr>
          <a:xfrm>
            <a:off x="3486240" y="3325320"/>
            <a:ext cx="1138320" cy="2444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1BC0-2754-489C-BAA0-47FF1B4DCFA8}" type="slidenum">
              <a:rPr b="0" lang="it-IT" sz="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itardomentale.anastasis.it/AMBIENTI/NodoCMS/CaricaPagina.asp?ID=83" TargetMode="External"/><Relationship Id="rId2" Type="http://schemas.openxmlformats.org/officeDocument/2006/relationships/hyperlink" Target="http://www.ritardomentale.anastasis.it/AMBIENTI/NodoCMS/CaricaPagina.asp?ID=83" TargetMode="External"/><Relationship Id="rId3" Type="http://schemas.openxmlformats.org/officeDocument/2006/relationships/hyperlink" Target="http://www.robertosconocchini.it/diverse-abilita/1916-una-guida-completa-da-scaricare-per-insegnanti-di-sostegno-qvoglia-di-crescereq.html" TargetMode="Externa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1000" y="964800"/>
            <a:ext cx="4419360" cy="93492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a disabilità mentale</a:t>
            </a:r>
            <a:endParaRPr b="1" lang="en-US" sz="2000" spc="-1" strike="noStrike">
              <a:solidFill>
                <a:srgbClr val="5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00000"/>
                </a:solidFill>
                <a:latin typeface="Garamond"/>
              </a:rPr>
              <a:t>Aspetti del ritardo mentale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95000" y="523440"/>
            <a:ext cx="4319640" cy="27608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Percezione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entezza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imprecisione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sincretismo 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Attenzione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imitata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Concentrazione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imitata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Memorizzazione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’imitata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0000"/>
                </a:solidFill>
                <a:latin typeface="Garamond"/>
              </a:rPr>
              <a:t>La didattica in presenza del ritardo mentale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95000" y="523440"/>
            <a:ext cx="4319640" cy="27608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’azione didattica dovrebbe generalmente mirare a: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Stabilire un programma comune con la struttura riabilitativa e con la famiglia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Pensare ad un «progetto di vita» (comunicazione, relazione, autnomia)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Stimolare l’autoregolazione , la metacognizione e la generalizzazione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Programmare esperienze significative ed inclusive con i compagni di classe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Tecniche di individualizzazione e facilitazione degli apprendimenti 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0000"/>
                </a:solidFill>
                <a:latin typeface="Garamond"/>
              </a:rPr>
              <a:t>Il setting didattico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95000" y="523440"/>
            <a:ext cx="4319640" cy="27608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L’ambiente: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’aula dovrebbe essere ricca di stimoli percettivi e ben ordinata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Bisognerebbe prevedere la realizzazione di uno spazio esterno all’aula per i momenti di riposo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Sussidi: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Materiali di manipolazione concreta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76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Sw adeguati </a:t>
            </a:r>
            <a:r>
              <a:rPr b="0" lang="it-IT" sz="7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it-IT" sz="7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http://</a:t>
            </a:r>
            <a:r>
              <a:rPr b="0" lang="it-IT" sz="700" spc="-1" strike="noStrike" u="sng">
                <a:solidFill>
                  <a:srgbClr val="996600"/>
                </a:solidFill>
                <a:uFillTx/>
                <a:latin typeface="Garamond"/>
                <a:hlinkClick r:id="rId2"/>
              </a:rPr>
              <a:t>www.ritardomentale.anastasis.it/AMBIENTI/NodoCMS/CaricaPagina.asp?ID=83</a:t>
            </a:r>
            <a:r>
              <a:rPr b="0" lang="it-IT" sz="7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it-IT" sz="700" spc="-1" strike="noStrike" u="sng">
                <a:solidFill>
                  <a:srgbClr val="996600"/>
                </a:solidFill>
                <a:uFillTx/>
                <a:latin typeface="Garamond"/>
                <a:hlinkClick r:id="rId3"/>
              </a:rPr>
              <a:t>http</a:t>
            </a:r>
            <a:r>
              <a:rPr b="0" lang="it-IT" sz="700" spc="-1" strike="noStrike">
                <a:solidFill>
                  <a:srgbClr val="000000"/>
                </a:solidFill>
                <a:latin typeface="Garamond"/>
              </a:rPr>
              <a:t>://www.robertosconocchini.it/diverse-abilita/1916-una-guida-completa-da-scaricare-per-insegnanti-di-sostegno-qvoglia-di-crescereq.html)</a:t>
            </a:r>
            <a:endParaRPr b="0" lang="en-US" sz="7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Forme di comunicazione alternativa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0000"/>
                </a:solidFill>
                <a:latin typeface="Garamond"/>
              </a:rPr>
              <a:t>Metodi di trattamento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95000" y="523440"/>
            <a:ext cx="4319640" cy="27608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Gli interventi di recupero dovranno indirizzarsi a tutte le funzioni mentali compromesse, partendo da quelle strumentali – percezione, motricità,  linguaggio – fino ad arrivare a quelle superiori dell’apprendimento, dell’adattamento all’ambiente, dell’autonomia e della creatività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Fra i programmi più diffusi troviamo: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Il metodo Frosting;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Il metodo Delacato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00000"/>
                </a:solidFill>
                <a:latin typeface="Garamond"/>
              </a:rPr>
              <a:t>Metodo Frostig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51000" y="523440"/>
            <a:ext cx="4464000" cy="27608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Il </a:t>
            </a: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metodo Frostig 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si basa sul training di </a:t>
            </a:r>
            <a:r>
              <a:rPr b="0" i="1" lang="it-IT" sz="1100" spc="-1" strike="noStrike">
                <a:solidFill>
                  <a:srgbClr val="000000"/>
                </a:solidFill>
                <a:latin typeface="Garamond"/>
              </a:rPr>
              <a:t>cinque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 capacità </a:t>
            </a:r>
            <a:r>
              <a:rPr b="0" i="1" lang="it-IT" sz="1100" spc="-1" strike="noStrike">
                <a:solidFill>
                  <a:srgbClr val="000000"/>
                </a:solidFill>
                <a:latin typeface="Garamond"/>
              </a:rPr>
              <a:t>visuo-percettive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 che sembrano svolgere un ruolo chiave nei processi di apprendimento dei bambini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e abilità di cui il metodo si propone di sostenere lo sviluppo sono: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275"/>
              </a:spcBef>
              <a:buClr>
                <a:srgbClr val="5000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La coordinazione visuo-motoria;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275"/>
              </a:spcBef>
              <a:buClr>
                <a:srgbClr val="5000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La percezione figura-sfondo;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275"/>
              </a:spcBef>
              <a:buClr>
                <a:srgbClr val="5000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La costanza percettiva;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275"/>
              </a:spcBef>
              <a:buClr>
                <a:srgbClr val="5000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La percezione della posizione nello spazio;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275"/>
              </a:spcBef>
              <a:buClr>
                <a:srgbClr val="5000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La percezione dei rapporti spaziali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4" name="Immagine 1" descr=""/>
          <p:cNvPicPr/>
          <p:nvPr/>
        </p:nvPicPr>
        <p:blipFill>
          <a:blip r:embed="rId1"/>
          <a:stretch/>
        </p:blipFill>
        <p:spPr>
          <a:xfrm>
            <a:off x="2798640" y="1871640"/>
            <a:ext cx="1898640" cy="1785960"/>
          </a:xfrm>
          <a:prstGeom prst="rect">
            <a:avLst/>
          </a:prstGeom>
          <a:ln w="12600">
            <a:solidFill>
              <a:srgbClr val="79302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00000"/>
                </a:solidFill>
                <a:latin typeface="Garamond"/>
              </a:rPr>
              <a:t>Metodo Frostig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640" y="523440"/>
            <a:ext cx="1601640" cy="27608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marL="228600" indent="-228600">
              <a:spcBef>
                <a:spcPts val="275"/>
              </a:spcBef>
              <a:buClr>
                <a:srgbClr val="5000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La coordinazione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visuo-motoria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Segui il percorso con il dito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Traccia il percorso con la penna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275"/>
              </a:spcBef>
              <a:buClr>
                <a:srgbClr val="5000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275"/>
              </a:spcBef>
              <a:buClr>
                <a:srgbClr val="5000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Immagine 2" descr=""/>
          <p:cNvPicPr/>
          <p:nvPr/>
        </p:nvPicPr>
        <p:blipFill>
          <a:blip r:embed="rId1"/>
          <a:stretch/>
        </p:blipFill>
        <p:spPr>
          <a:xfrm>
            <a:off x="1935000" y="85680"/>
            <a:ext cx="2845080" cy="3567240"/>
          </a:xfrm>
          <a:prstGeom prst="rect">
            <a:avLst/>
          </a:prstGeom>
          <a:ln w="12600">
            <a:solidFill>
              <a:srgbClr val="79302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00000"/>
                </a:solidFill>
                <a:latin typeface="Garamond"/>
              </a:rPr>
              <a:t>Metodo Frostig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640" y="460440"/>
            <a:ext cx="1368360" cy="27604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Percezione figura-sfondo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275"/>
              </a:spcBef>
              <a:buClr>
                <a:srgbClr val="5000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275"/>
              </a:spcBef>
              <a:buClr>
                <a:srgbClr val="5000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Colora le figure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Disegna le figure su un foglio separato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275"/>
              </a:spcBef>
              <a:buClr>
                <a:srgbClr val="5000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275"/>
              </a:spcBef>
              <a:buClr>
                <a:srgbClr val="5000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0" name="Immagine 1" descr=""/>
          <p:cNvPicPr/>
          <p:nvPr/>
        </p:nvPicPr>
        <p:blipFill>
          <a:blip r:embed="rId1"/>
          <a:stretch/>
        </p:blipFill>
        <p:spPr>
          <a:xfrm>
            <a:off x="1655640" y="460440"/>
            <a:ext cx="3222720" cy="2811240"/>
          </a:xfrm>
          <a:prstGeom prst="rect">
            <a:avLst/>
          </a:prstGeom>
          <a:ln w="9360">
            <a:solidFill>
              <a:srgbClr val="79302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00000"/>
                </a:solidFill>
                <a:latin typeface="Garamond"/>
              </a:rPr>
              <a:t>Metodo Frostig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0640" y="460440"/>
            <a:ext cx="4392360" cy="27604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La Costanza percettiva 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si sviluppa attraverso: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a costanza della forma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a costanza della dimensione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Percezione di distanza e profondità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Grazie alla costanza percettiva gli individui sono in grado di percepire un oggetto come identico a se stesso anche se la forma, le dimensioni e il colore cambiano a causa del movimento o al variare delle condizioni di illuminazione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275"/>
              </a:spcBef>
              <a:buClr>
                <a:srgbClr val="5000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275"/>
              </a:spcBef>
              <a:buClr>
                <a:srgbClr val="5000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00000"/>
                </a:solidFill>
                <a:latin typeface="Garamond"/>
              </a:rPr>
              <a:t>Metodo Frostig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0640" y="460440"/>
            <a:ext cx="4392360" cy="2160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 fontScale="6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Garamond"/>
              </a:rPr>
              <a:t>La percezione del corpo nello spazi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5" name="Immagine 1" descr=""/>
          <p:cNvPicPr/>
          <p:nvPr/>
        </p:nvPicPr>
        <p:blipFill>
          <a:blip r:embed="rId1"/>
          <a:stretch/>
        </p:blipFill>
        <p:spPr>
          <a:xfrm>
            <a:off x="1935000" y="695160"/>
            <a:ext cx="319752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00000"/>
                </a:solidFill>
                <a:latin typeface="Garamond"/>
              </a:rPr>
              <a:t>Metodo Frostig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50640" y="460440"/>
            <a:ext cx="4392360" cy="2160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 fontScale="6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Garamond"/>
              </a:rPr>
              <a:t>La percezione dei rapporti spazial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8" name="Immagine 4" descr=""/>
          <p:cNvPicPr/>
          <p:nvPr/>
        </p:nvPicPr>
        <p:blipFill>
          <a:blip r:embed="rId1"/>
          <a:srcRect l="0" t="1254" r="0" b="22033"/>
          <a:stretch/>
        </p:blipFill>
        <p:spPr>
          <a:xfrm>
            <a:off x="206280" y="878040"/>
            <a:ext cx="2183040" cy="132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Immagine 5" descr=""/>
          <p:cNvPicPr/>
          <p:nvPr/>
        </p:nvPicPr>
        <p:blipFill>
          <a:blip r:embed="rId2"/>
          <a:srcRect l="0" t="0" r="0" b="10484"/>
          <a:stretch/>
        </p:blipFill>
        <p:spPr>
          <a:xfrm>
            <a:off x="2655720" y="878040"/>
            <a:ext cx="2181240" cy="131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0000"/>
                </a:solidFill>
                <a:latin typeface="Garamond"/>
              </a:rPr>
              <a:t>Definizioni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5000" y="523440"/>
            <a:ext cx="4319640" cy="27608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 fontScale="96000"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a letteratura psichiatrica definisce il ritardo mentale come una </a:t>
            </a:r>
            <a:r>
              <a:rPr b="0" i="1" lang="it-IT" sz="1100" spc="-1" strike="noStrike">
                <a:solidFill>
                  <a:srgbClr val="000000"/>
                </a:solidFill>
                <a:latin typeface="Garamond"/>
              </a:rPr>
              <a:t>sindrome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 con sintomi legati a difetti strutturali nello sviluppo delle </a:t>
            </a:r>
            <a:r>
              <a:rPr b="0" i="1" lang="it-IT" sz="1100" spc="-1" strike="noStrike">
                <a:solidFill>
                  <a:srgbClr val="000000"/>
                </a:solidFill>
                <a:latin typeface="Garamond"/>
              </a:rPr>
              <a:t>funzioni astrattive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it-IT" sz="1100" spc="-1" strike="noStrike">
                <a:solidFill>
                  <a:srgbClr val="000000"/>
                </a:solidFill>
                <a:latin typeface="Garamond"/>
              </a:rPr>
              <a:t>della conoscenza e dell’adattamento all’ambiente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, cui spesso si associano </a:t>
            </a:r>
            <a:r>
              <a:rPr b="0" i="1" lang="it-IT" sz="1100" spc="-1" strike="noStrike">
                <a:solidFill>
                  <a:srgbClr val="000000"/>
                </a:solidFill>
                <a:latin typeface="Garamond"/>
              </a:rPr>
              <a:t>disturbi della personalità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it-IT" sz="1100" spc="-1" strike="noStrike">
                <a:solidFill>
                  <a:srgbClr val="000000"/>
                </a:solidFill>
                <a:latin typeface="Garamond"/>
              </a:rPr>
              <a:t>del comportamento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it-IT" sz="1100" spc="-1" strike="noStrike">
                <a:solidFill>
                  <a:srgbClr val="000000"/>
                </a:solidFill>
                <a:latin typeface="Garamond"/>
              </a:rPr>
              <a:t>del linguaggio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it-IT" sz="1100" spc="-1" strike="noStrike">
                <a:solidFill>
                  <a:srgbClr val="000000"/>
                </a:solidFill>
                <a:latin typeface="Garamond"/>
              </a:rPr>
              <a:t>delle funzioni percettive, motorie o malformazioni somatiche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«Il ritardo mentale si riferisce a limitazioni sostanziali nel funzionamento di un individuo. È caratterizzato da un funzionamento intellettivo significativamente al di sotto della media, cui sono associate limitazioni in due o più fra le seguenti aree di abilità adattiva: comunicazione, cura personale, vita in casa, abilità sociali, vita nella comunità, auto-gestione, salute e sicurezza, abilità scolastiche funzionali, tempo libero e lavoro. Il ritardo mentale si manifesta prima dei 18 anni» (Cornoldi, 2012)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0000"/>
                </a:solidFill>
                <a:latin typeface="Garamond"/>
              </a:rPr>
              <a:t>Metodo Delacato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50640" y="460440"/>
            <a:ext cx="4392360" cy="2160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 fontScale="14000"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a Metodologia Delacato si basa sostanzialmente su tre presupposti: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Il </a:t>
            </a: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primo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, che gli stimoli sensoriali derivanti dall’ambiente sono fondamentali nella determinazione del comportamento umano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Il </a:t>
            </a: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secondo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 le mappe neuronali, derivanti dagli stimoli ambientali, possono subire in epoche diverse (in epoca prenatale, perinatale e postnatale) delle lesioni minime per cui si modifica drasticamente l’entrata degli inputs sensoriali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Il </a:t>
            </a: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terzo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 presupposto è che grazie alla plasticità neuronale del Sistema Nervoso Centrale, ed al perdurare di questa caratteristica anche a molti anni di distanza dalla nascita, è possibile, con opportune stimolazioni, modificare l’attività delle mappe neuronali, riorganizzando l’entrata degli stimoli ambientali, e consentire in questo modo di adottare comportamenti funzionali alla sopravvivenza ed alla convivenza sociale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0000"/>
                </a:solidFill>
                <a:latin typeface="Garamond"/>
              </a:rPr>
              <a:t>Metodo Delacato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0640" y="460440"/>
            <a:ext cx="4392360" cy="21600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 fontScale="21000"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Come viene applicato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’applicazione del Metodo Delacato è relativamente facile in quanto si tratta di somministrare esercizi sensoriali e motori per cinque giorni a settimana per circa due ore e mezza al giorno, suddivisi in più momenti della giornata (a scelta dei genitori)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Ogni esercizio può essere applicato una o più volte al giorno per un tempo che va da un minimo di trenta secondi ad un massimo di due minuti consecutivi  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0000"/>
                </a:solidFill>
                <a:latin typeface="Garamond"/>
              </a:rPr>
              <a:t>Definizioni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95000" y="523440"/>
            <a:ext cx="4319640" cy="27608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Il ritardo mentale è stato essenzialmente affrontato in base a due paradigmi di riferimento: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L’approccio neuropsicologico, 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che indaga i limiti in specifiche funzioni cognitive come la memoria, il linguaggio, la percezione o l’attenzione rapportandole ad altri deficit-ritardi del sistema nervoso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La prospettiva psicometrica, 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principalmente rivolta alla realizzazione di strumenti di misura che possano differenziare i soggetti normodotati da quelli con deficit cognitivo attraverso test intellettivi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0000"/>
                </a:solidFill>
                <a:latin typeface="Garamond"/>
              </a:rPr>
              <a:t>Definizioni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95000" y="523440"/>
            <a:ext cx="4319640" cy="27608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 fontScale="94000"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Nel </a:t>
            </a: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DSMV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 il ritardo mentale viene identificato attraverso 3 fattori: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Quoziente intellettivo inferiore a 70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Esistenza di limiti significativi nei comportamenti adattivi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Comparsa delle manifestazioni prima dei 18 anni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Il DSM  distingue inoltre quattro gradi di gravità del ritardo che può esprimersi in forma: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Lieve: 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QI da 50 a 70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Media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: QI da 35 a 50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Grave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: QI da 20 a 35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Gravissimo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: QI inferiore a 20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A questi 4 gradi si aggiunge il grado </a:t>
            </a: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Borderline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 (QI compreso fra 70 e 90)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0000"/>
                </a:solidFill>
                <a:latin typeface="Garamond"/>
              </a:rPr>
              <a:t>Gravità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5000" y="460440"/>
          <a:ext cx="4680000" cy="3109680"/>
        </p:xfrm>
        <a:graphic>
          <a:graphicData uri="http://schemas.openxmlformats.org/drawingml/2006/table">
            <a:tbl>
              <a:tblPr/>
              <a:tblGrid>
                <a:gridCol w="503280"/>
                <a:gridCol w="242640"/>
                <a:gridCol w="382680"/>
                <a:gridCol w="406440"/>
                <a:gridCol w="1536840"/>
                <a:gridCol w="1608120"/>
              </a:tblGrid>
              <a:tr h="419400"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d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.I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tà Ment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ratteristi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etenze scolasti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89960"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e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0-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-11 an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inime compromissioni sensomotori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ssono vivere in comunità con sostegn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rrispondono circa alla quinta elementa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346760"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d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5-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-8 an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rete capacità comunicativ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 supervisione possono provvedere alla cura della propria persona e allo svolgimento di lavori semplic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lativa autonomia nei luoghi familiar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reto adattamento alla vita di comunit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rrispondono circa alla seconda elementa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34760"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-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-6 an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inimi o assenti livelli di linguagg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inime competenze di autonom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ssono svolgere attività semplici in ambienti protett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ssono acquisire capacità di riconoscere parole semplici per i bisogni primar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734760"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fon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&lt;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&lt;4 an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mpromissione significativa del funzionamento sensomotor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ecessitano di assistenza costan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87440"/>
                          <a:tab algn="l" pos="974880"/>
                          <a:tab algn="l" pos="1461960"/>
                          <a:tab algn="l" pos="1949400"/>
                          <a:tab algn="l" pos="2436840"/>
                          <a:tab algn="l" pos="2924280"/>
                          <a:tab algn="l" pos="3411360"/>
                          <a:tab algn="l" pos="3898800"/>
                          <a:tab algn="l" pos="4386240"/>
                          <a:tab algn="l" pos="4873680"/>
                          <a:tab algn="l" pos="5361120"/>
                          <a:tab algn="l" pos="5848200"/>
                          <a:tab algn="l" pos="6335640"/>
                          <a:tab algn="l" pos="6823080"/>
                          <a:tab algn="l" pos="7310520"/>
                          <a:tab algn="l" pos="7797960"/>
                          <a:tab algn="l" pos="8285040"/>
                          <a:tab algn="l" pos="8772480"/>
                          <a:tab algn="l" pos="9259920"/>
                          <a:tab algn="l" pos="9747360"/>
                        </a:tabLst>
                      </a:pPr>
                      <a:r>
                        <a:rPr b="1" lang="it-IT" sz="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0000"/>
                </a:solidFill>
                <a:latin typeface="Garamond"/>
              </a:rPr>
              <a:t>Diagnosi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5000" y="523440"/>
            <a:ext cx="4319640" cy="27608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marL="171360" indent="-171360"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I soggetti con </a:t>
            </a:r>
            <a:r>
              <a:rPr b="1" i="1" lang="it-IT" sz="1100" spc="-1" strike="noStrike">
                <a:solidFill>
                  <a:srgbClr val="000000"/>
                </a:solidFill>
                <a:latin typeface="Garamond"/>
              </a:rPr>
              <a:t>R.M. di grado Lieve 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possono essere individuati ai 2 aa. di vita; gli interventi entro i 6 aa. aumentano realmente le possibilità dello sviluppo cognitivo finale; una valutazione corretta dall'età scolare consente un completo inserimento sociale in età adulta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marL="171360" indent="-171360"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I soggetti con </a:t>
            </a:r>
            <a:r>
              <a:rPr b="1" i="1" lang="it-IT" sz="1100" spc="-1" strike="noStrike">
                <a:solidFill>
                  <a:srgbClr val="000000"/>
                </a:solidFill>
                <a:latin typeface="Garamond"/>
              </a:rPr>
              <a:t>R.M. di grado Medio 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possono essere riconosciuti a 12-18 mesi; l'entità del problema definita a 4-5 aa.; gli interventi consentono di ridurre lo stato assistenziale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marL="171360" indent="-171360"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I soggetti con </a:t>
            </a:r>
            <a:r>
              <a:rPr b="1" i="1" lang="it-IT" sz="1100" spc="-1" strike="noStrike">
                <a:solidFill>
                  <a:srgbClr val="000000"/>
                </a:solidFill>
                <a:latin typeface="Garamond"/>
              </a:rPr>
              <a:t>R.M. di grado Grave 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possono essere individuati a 8 12 mesi, la gravità precisata a 3-4 aa.; è possibile programmare per tempo i supporti assistenziali e sociali necessari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0000"/>
                </a:solidFill>
                <a:latin typeface="Garamond"/>
              </a:rPr>
              <a:t>Definizioni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95000" y="523440"/>
            <a:ext cx="4319640" cy="27608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Attualmente i deficit cognitivi vengono valutati con psicodiagnostici accreditati a livello internazionale, fra questi la </a:t>
            </a:r>
            <a:r>
              <a:rPr b="1" i="1" lang="it-IT" sz="1100" spc="-1" strike="noStrike">
                <a:solidFill>
                  <a:srgbClr val="000000"/>
                </a:solidFill>
                <a:latin typeface="Garamond"/>
              </a:rPr>
              <a:t>Wisc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 nella sua versione per bambini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Dalle scale psicometriche si deduce la cosidetta «età mentale», ovvero il confronto con le capacità medie di ogni fascia d’età e il </a:t>
            </a: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QI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 che indica il rapporto tra età mentale ed età cronologica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0000"/>
                </a:solidFill>
                <a:latin typeface="Garamond"/>
              </a:rPr>
              <a:t>Q.I.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000" y="523440"/>
            <a:ext cx="4319640" cy="27608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a scala di valutazione </a:t>
            </a:r>
            <a:r>
              <a:rPr b="1" i="1" lang="it-IT" sz="1100" spc="-1" strike="noStrike">
                <a:solidFill>
                  <a:srgbClr val="000000"/>
                </a:solidFill>
                <a:latin typeface="Garamond"/>
              </a:rPr>
              <a:t>Wisc  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comporta 12 prove, di cui: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sei verbali: 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Informazioni, Somiglianze, Aritmetica, Vocabolario, Comprensione, Memoria di cifre. 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sei di performance: 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Completamento di figure, Storie figurate, Disegno con cubi, Ricostruzione di oggetti, Cifrario e Labirinto. 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buClr>
                <a:srgbClr val="5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Ad ogni prova viene assegnato un punteggio grezzo, che viene poi trasformato in punteggio standard e, sommando tali punteggi relativi a 5 prove verbali e 5 prove di performance si ottiene un Q.I. verbale, di performance e totale, calcolato in base ad apposite tabelle suddivise per tranche di quattro mesi. 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79520" y="253800"/>
            <a:ext cx="4341600" cy="19188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0000"/>
                </a:solidFill>
                <a:latin typeface="Garamond"/>
              </a:rPr>
              <a:t>Abilitazione</a:t>
            </a:r>
            <a:endParaRPr b="1" lang="en-US" sz="1200" spc="-1" strike="noStrike">
              <a:solidFill>
                <a:srgbClr val="5000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95000" y="523440"/>
            <a:ext cx="4319640" cy="2760840"/>
          </a:xfrm>
          <a:prstGeom prst="rect">
            <a:avLst/>
          </a:prstGeom>
          <a:noFill/>
          <a:ln w="0">
            <a:noFill/>
          </a:ln>
        </p:spPr>
        <p:txBody>
          <a:bodyPr lIns="48600" rIns="48600" tIns="24480" bIns="24480" anchor="t">
            <a:normAutofit fontScale="89000"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’area che è più spesso compromessa nel </a:t>
            </a: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R.M.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 è quella del </a:t>
            </a:r>
            <a:r>
              <a:rPr b="1" i="1" lang="it-IT" sz="1100" spc="-1" strike="noStrike">
                <a:solidFill>
                  <a:srgbClr val="000000"/>
                </a:solidFill>
                <a:latin typeface="Garamond"/>
              </a:rPr>
              <a:t>linguaggio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’intervento </a:t>
            </a:r>
            <a:r>
              <a:rPr b="0" i="1" lang="it-IT" sz="1100" spc="-1" strike="noStrike">
                <a:solidFill>
                  <a:srgbClr val="000000"/>
                </a:solidFill>
                <a:latin typeface="Garamond"/>
              </a:rPr>
              <a:t>logopedico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 quindi è sempre necessario e va continuato e modulato secondo le indicazioni del </a:t>
            </a:r>
            <a:r>
              <a:rPr b="0" i="1" lang="it-IT" sz="1100" spc="-1" strike="noStrike">
                <a:solidFill>
                  <a:srgbClr val="000000"/>
                </a:solidFill>
                <a:latin typeface="Garamond"/>
              </a:rPr>
              <a:t>foniatra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a compromissione del linguaggio può essere complicata da eventuali concomitanti deficit dell’udito, che debbono essere individuati prima ancora di porre la diagnosi di </a:t>
            </a: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R.M.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 e corretti per quanto possibile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a </a:t>
            </a:r>
            <a:r>
              <a:rPr b="1" i="1" lang="it-IT" sz="1100" spc="-1" strike="noStrike">
                <a:solidFill>
                  <a:srgbClr val="000000"/>
                </a:solidFill>
                <a:latin typeface="Garamond"/>
              </a:rPr>
              <a:t>motricità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 è la seconda area più frequentemente coinvolta: ne consegue </a:t>
            </a:r>
            <a:r>
              <a:rPr b="0" i="1" lang="it-IT" sz="1100" spc="-1" strike="noStrike">
                <a:solidFill>
                  <a:srgbClr val="000000"/>
                </a:solidFill>
                <a:latin typeface="Garamond"/>
              </a:rPr>
              <a:t>l’intervento fisioterapico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, che deve essere precoce, ma non assillante per il bambino né per la famiglia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a </a:t>
            </a:r>
            <a:r>
              <a:rPr b="0" i="1" lang="it-IT" sz="1100" spc="-1" strike="noStrike">
                <a:solidFill>
                  <a:srgbClr val="000000"/>
                </a:solidFill>
                <a:latin typeface="Garamond"/>
              </a:rPr>
              <a:t>stimolazione educativa e pedagogica 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darà risultati tanto maggiori quanto più lieve è il </a:t>
            </a: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R.M. 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e dovrà essere modulata secondo le caratteristiche del bambino, principalmente riguardo alla </a:t>
            </a:r>
            <a:r>
              <a:rPr b="0" i="1" lang="it-IT" sz="1100" spc="-1" strike="noStrike">
                <a:solidFill>
                  <a:srgbClr val="000000"/>
                </a:solidFill>
                <a:latin typeface="Garamond"/>
              </a:rPr>
              <a:t>comunicazione (verbale e non) e all’integrità delle capacità visive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Le abilitazioni nel versante </a:t>
            </a:r>
            <a:r>
              <a:rPr b="1" lang="it-IT" sz="1100" spc="-1" strike="noStrike">
                <a:solidFill>
                  <a:srgbClr val="000000"/>
                </a:solidFill>
                <a:latin typeface="Garamond"/>
              </a:rPr>
              <a:t>comunicativo, motorio e dell’apprendimento </a:t>
            </a:r>
            <a:r>
              <a:rPr b="0" lang="it-IT" sz="1100" spc="-1" strike="noStrike">
                <a:solidFill>
                  <a:srgbClr val="000000"/>
                </a:solidFill>
                <a:latin typeface="Garamond"/>
              </a:rPr>
              <a:t>rappresentano i tre pilastri dell’abilitazione del bambino con R.M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6:42:04Z</dcterms:created>
  <dc:creator>rosy</dc:creator>
  <dc:description/>
  <dc:language>en-US</dc:language>
  <cp:lastModifiedBy>user</cp:lastModifiedBy>
  <dcterms:modified xsi:type="dcterms:W3CDTF">2015-05-07T09:18:27Z</dcterms:modified>
  <cp:revision>463</cp:revision>
  <dc:subject/>
  <dc:title>Corpo, movimento, apprendimen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CFs9djDeyOVtkXYmicNm0YCKDhKuso6a17d9AvtkE6Q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PreviousRevisionId">
    <vt:lpwstr>09631191201665680985</vt:lpwstr>
  </property>
  <property fmtid="{D5CDD505-2E9C-101B-9397-08002B2CF9AE}" pid="6" name="Google.Documents.RevisionId">
    <vt:lpwstr>10244256300553327751</vt:lpwstr>
  </property>
  <property fmtid="{D5CDD505-2E9C-101B-9397-08002B2CF9AE}" pid="7" name="Google.Documents.Tracking">
    <vt:lpwstr>true</vt:lpwstr>
  </property>
</Properties>
</file>